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2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5.png" ContentType="image/png"/>
  <Override PartName="/ppt/media/image10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1.jpeg" ContentType="image/jpeg"/>
  <Override PartName="/ppt/media/image7.png" ContentType="image/png"/>
  <Override PartName="/ppt/media/image1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 type="dt" idx="10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move the slide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5"/>
          <p:cNvSpPr>
            <a:spLocks noGrp="1"/>
          </p:cNvSpPr>
          <p:nvPr>
            <p:ph type="ftr" idx="11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6"/>
          <p:cNvSpPr>
            <a:spLocks noGrp="1"/>
          </p:cNvSpPr>
          <p:nvPr>
            <p:ph type="sldNum" idx="12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347211-6F59-4C0B-9F34-FC97E366F1A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9FC13-1F08-4301-9934-DC817793AF3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799760-F208-451A-A7EA-3324B19F35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2310E0-F4F0-4EB4-968F-A37E1C486450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64A467-399E-42AA-A835-A3938B94B4B5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C2852F-48D0-40E8-BC09-F5D51E1AFA3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F34-D5A4-4E24-9DF1-A83F5A0587F4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14158F-5782-422C-960D-8DAD367FB5D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58B5D2-02C9-4918-9A2E-C08FBC88C0B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6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E9CD9-FAE1-4CE5-AAB4-35C45C22DCE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07445A-9504-4916-A170-A67AB4DCFDC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43CDB9-A77B-4B69-B604-931E5BD526CA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6751E8-E738-4986-BB7C-4B8AC12CE01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EAD05-2BD8-4332-94A8-FC11A62FC1E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7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9D1DD8-0186-4BA8-91C0-0303695AAEE1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B15BB-25B9-452D-BAB2-6B1E77FCE89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A9568E-A251-4C6B-89C0-E4548840E453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1D9718-0D36-41E6-92B8-EC38FB0733F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C5BCD0-7552-49F5-AF33-8A613CB68E27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4FF9EC-24B5-4816-821E-117FBE91F452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4413D-401A-4D71-804D-9E409BC810EE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5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9F5C4-5049-4D52-AB69-67D3D93CDFAD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38" name="PlaceHolder 2"/>
          <p:cNvSpPr>
            <a:spLocks noGrp="1"/>
          </p:cNvSpPr>
          <p:nvPr>
            <p:ph type="body"/>
          </p:nvPr>
        </p:nvSpPr>
        <p:spPr>
          <a:xfrm>
            <a:off x="914400" y="6324120"/>
            <a:ext cx="502920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mplates are both annoying and powerfu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0D190B-B43B-4039-AE7F-F4D8EC8EAF59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4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Slide Number Placeholder 3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6379D-A884-465E-8358-F80E45AF8ACC}" type="slidenum">
              <a:rPr b="0" lang="en-US" sz="1200" spc="-1" strike="noStrike">
                <a:solidFill>
                  <a:srgbClr val="7f0d28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FA2E45-F940-4B1E-AD9A-3E9F4F00A0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3C80C6-E636-4718-BDBF-E1C3EB49C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31093B6-5594-4F6F-8E2B-17E1ADBE6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6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581E00-C164-4C20-BE53-CC8E0B34F2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B1D459-C567-4119-9248-FF68D583E7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40F12E-0016-4E67-AC8F-802AD757D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4CFF9-6C07-41C7-87C8-32ADF42F3F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A1C9-E24A-41C0-866B-F04531FA85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98EF24-5D76-4F86-9B0D-CCF11546D1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322677-82DF-43AA-9468-62D9996FA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16F7F8-05EC-49F2-B382-536306950A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6669101-E92F-40D0-9730-EAF06E7E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539C73-4E6B-4A86-A408-8C191410FF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09B18-2D32-4877-B20B-3A42BE0619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B5FD0-7CC8-4857-91D9-5B62258CFA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80F774-43A6-4689-B9FB-83E89876B2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53EB01-5A30-47AD-A990-2D97A64178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EB1B25-A64B-451A-96C2-1052DCFCA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76CCC95-3BDF-4837-85C6-3CF42EC5C3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CCF2101-F588-4F80-8E75-A95A62574E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7CC557C-A19A-4555-A7FF-4484D7D40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3A9B4E8-3DB5-44C6-8B3D-730E2107B1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A5C5A0-9C35-4D55-A84D-07E736567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542078-0868-4615-8EF9-E5ED53C977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4C8BA1C-443D-4BE0-948A-3286DCE474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191E0E-37A4-4C5B-9D50-F5C9673DA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D92AC50-8418-406D-AA8E-82A64061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6278A5C-B60E-4C47-9D37-6A49773F10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4" name="PlaceHolder 5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67E2BA-643F-46F6-B08A-9DCCAC5A53F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384264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6315480" y="182736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39" name="PlaceHolder 5"/>
          <p:cNvSpPr>
            <a:spLocks noGrp="1"/>
          </p:cNvSpPr>
          <p:nvPr>
            <p:ph/>
          </p:nvPr>
        </p:nvSpPr>
        <p:spPr>
          <a:xfrm>
            <a:off x="136980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0" name="PlaceHolder 6"/>
          <p:cNvSpPr>
            <a:spLocks noGrp="1"/>
          </p:cNvSpPr>
          <p:nvPr>
            <p:ph/>
          </p:nvPr>
        </p:nvSpPr>
        <p:spPr>
          <a:xfrm>
            <a:off x="384264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41" name="PlaceHolder 7"/>
          <p:cNvSpPr>
            <a:spLocks noGrp="1"/>
          </p:cNvSpPr>
          <p:nvPr>
            <p:ph/>
          </p:nvPr>
        </p:nvSpPr>
        <p:spPr>
          <a:xfrm>
            <a:off x="6315480" y="3976920"/>
            <a:ext cx="23547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5CE1C85-889B-470F-9F8E-C03380E8A9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A634EB-618F-45F3-A51D-7BDFE8966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86CB46-EB23-4294-BFB3-4758188532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subTitle"/>
          </p:nvPr>
        </p:nvSpPr>
        <p:spPr>
          <a:xfrm>
            <a:off x="1369800" y="301320"/>
            <a:ext cx="7313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4E65F0-C3EE-4F4D-B155-D806D94108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F6A6-87CB-4BB0-A2C0-DCE2B7496A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5117400" y="397692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E38006-EF27-4D31-92A5-1A05713B7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5117400" y="1827360"/>
            <a:ext cx="356868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369800" y="3976920"/>
            <a:ext cx="7313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26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FB45-B52E-4764-A4B8-2963B2AF7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2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ftr" idx="1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sldNum" idx="2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8FBAEF-353A-4BAA-89DD-4AA3DC657C8D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8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" name="PlaceHolder 5"/>
          <p:cNvSpPr>
            <a:spLocks noGrp="1"/>
          </p:cNvSpPr>
          <p:nvPr>
            <p:ph type="dt" idx="3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Line 2"/>
          <p:cNvSpPr/>
          <p:nvPr/>
        </p:nvSpPr>
        <p:spPr>
          <a:xfrm>
            <a:off x="1295280" y="2514600"/>
            <a:ext cx="7239240" cy="0"/>
          </a:xfrm>
          <a:prstGeom prst="line">
            <a:avLst/>
          </a:prstGeom>
          <a:ln w="12600">
            <a:solidFill>
              <a:srgbClr val="dcb56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8" name="AutoShape 3"/>
          <p:cNvSpPr/>
          <p:nvPr/>
        </p:nvSpPr>
        <p:spPr>
          <a:xfrm>
            <a:off x="-2514600" y="1371600"/>
            <a:ext cx="3657600" cy="365760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49" name="AutoShape 4"/>
          <p:cNvSpPr/>
          <p:nvPr/>
        </p:nvSpPr>
        <p:spPr>
          <a:xfrm>
            <a:off x="-3222720" y="304920"/>
            <a:ext cx="4038840" cy="403848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50" name="Picture 10" descr="SimbiosLogo"/>
          <p:cNvPicPr/>
          <p:nvPr/>
        </p:nvPicPr>
        <p:blipFill>
          <a:blip r:embed="rId2"/>
          <a:stretch/>
        </p:blipFill>
        <p:spPr>
          <a:xfrm>
            <a:off x="304920" y="624852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51" name="Line 11"/>
          <p:cNvSpPr/>
          <p:nvPr/>
        </p:nvSpPr>
        <p:spPr>
          <a:xfrm>
            <a:off x="1600200" y="65530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2" name="Line 12"/>
          <p:cNvSpPr/>
          <p:nvPr/>
        </p:nvSpPr>
        <p:spPr>
          <a:xfrm>
            <a:off x="0" y="65530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3" name="Line 13"/>
          <p:cNvSpPr/>
          <p:nvPr/>
        </p:nvSpPr>
        <p:spPr>
          <a:xfrm>
            <a:off x="0" y="1143000"/>
            <a:ext cx="5257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dt" idx="4"/>
          </p:nvPr>
        </p:nvSpPr>
        <p:spPr>
          <a:xfrm>
            <a:off x="304920" y="64771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ftr" idx="5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sldNum" idx="6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55E560-793E-46CC-B346-9C18FFC29F18}" type="slidenum">
              <a:rPr b="0" lang="en-US" sz="1200" spc="-1" strike="noStrike">
                <a:solidFill>
                  <a:srgbClr val="000000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AutoShape 2"/>
          <p:cNvSpPr/>
          <p:nvPr/>
        </p:nvSpPr>
        <p:spPr>
          <a:xfrm>
            <a:off x="-3238560" y="685800"/>
            <a:ext cx="4114800" cy="3124080"/>
          </a:xfrm>
          <a:prstGeom prst="pie">
            <a:avLst/>
          </a:prstGeom>
          <a:solidFill>
            <a:srgbClr val="dcb56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6" name="AutoShape 3"/>
          <p:cNvSpPr/>
          <p:nvPr/>
        </p:nvSpPr>
        <p:spPr>
          <a:xfrm>
            <a:off x="-2425680" y="0"/>
            <a:ext cx="3093840" cy="3154320"/>
          </a:xfrm>
          <a:prstGeom prst="pie">
            <a:avLst/>
          </a:prstGeom>
          <a:solidFill>
            <a:srgbClr val="9900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97" name="Line 4"/>
          <p:cNvSpPr/>
          <p:nvPr/>
        </p:nvSpPr>
        <p:spPr>
          <a:xfrm>
            <a:off x="1371600" y="1523880"/>
            <a:ext cx="7315200" cy="0"/>
          </a:xfrm>
          <a:prstGeom prst="line">
            <a:avLst/>
          </a:prstGeom>
          <a:ln w="1260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pic>
        <p:nvPicPr>
          <p:cNvPr id="98" name="Picture 10" descr="SimbiosLogo"/>
          <p:cNvPicPr/>
          <p:nvPr/>
        </p:nvPicPr>
        <p:blipFill>
          <a:blip r:embed="rId2"/>
          <a:stretch/>
        </p:blipFill>
        <p:spPr>
          <a:xfrm>
            <a:off x="304920" y="6303960"/>
            <a:ext cx="1257120" cy="554040"/>
          </a:xfrm>
          <a:prstGeom prst="rect">
            <a:avLst/>
          </a:prstGeom>
          <a:ln w="0">
            <a:noFill/>
          </a:ln>
        </p:spPr>
      </p:pic>
      <p:sp>
        <p:nvSpPr>
          <p:cNvPr id="99" name="Line 11"/>
          <p:cNvSpPr/>
          <p:nvPr/>
        </p:nvSpPr>
        <p:spPr>
          <a:xfrm>
            <a:off x="1600200" y="6608880"/>
            <a:ext cx="754380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0" name="Line 12"/>
          <p:cNvSpPr/>
          <p:nvPr/>
        </p:nvSpPr>
        <p:spPr>
          <a:xfrm>
            <a:off x="0" y="6608880"/>
            <a:ext cx="304920" cy="0"/>
          </a:xfrm>
          <a:prstGeom prst="line">
            <a:avLst/>
          </a:prstGeom>
          <a:ln w="38160">
            <a:solidFill>
              <a:srgbClr val="9900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Click to edit the title text format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 type="body"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Click to edit the outline text forma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con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2" marL="11430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ird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3" marL="1600200" indent="-228600">
              <a:spcBef>
                <a:spcPts val="726"/>
              </a:spcBef>
              <a:buClr>
                <a:srgbClr val="dcb568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our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4" marL="2057400" indent="-22860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Fif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5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ix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6" marL="2057400" indent="-228600">
              <a:spcBef>
                <a:spcPts val="726"/>
              </a:spcBef>
              <a:buClr>
                <a:srgbClr val="7f0d28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eventh Outline Lev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 type="dt" idx="7"/>
          </p:nvPr>
        </p:nvSpPr>
        <p:spPr>
          <a:xfrm>
            <a:off x="312840" y="646272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KBruns3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 type="ftr" idx="8"/>
          </p:nvPr>
        </p:nvSpPr>
        <p:spPr>
          <a:xfrm>
            <a:off x="32763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05" name="PlaceHolder 5"/>
          <p:cNvSpPr>
            <a:spLocks noGrp="1"/>
          </p:cNvSpPr>
          <p:nvPr>
            <p:ph type="sldNum" idx="9"/>
          </p:nvPr>
        </p:nvSpPr>
        <p:spPr>
          <a:xfrm>
            <a:off x="6705720" y="6400800"/>
            <a:ext cx="21333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7f0d28"/>
                </a:solidFill>
                <a:latin typeface="CKBruns3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D67EE-F32F-4879-AECE-5EF671F1BE1A}" type="slidenum">
              <a:rPr b="0" lang="en-US" sz="1200" spc="-1" strike="noStrike">
                <a:solidFill>
                  <a:srgbClr val="7f0d28"/>
                </a:solidFill>
                <a:latin typeface="CKBruns3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9.png"/><Relationship Id="rId8" Type="http://schemas.openxmlformats.org/officeDocument/2006/relationships/image" Target="../media/image10.png"/><Relationship Id="rId9" Type="http://schemas.openxmlformats.org/officeDocument/2006/relationships/image" Target="../media/image11.png"/><Relationship Id="rId10" Type="http://schemas.openxmlformats.org/officeDocument/2006/relationships/slideLayout" Target="../slideLayouts/slideLayout1.xml"/><Relationship Id="rId11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386000" y="985320"/>
            <a:ext cx="7238880" cy="14446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990033"/>
                </a:solidFill>
                <a:latin typeface="CKBruns3"/>
              </a:rPr>
              <a:t>Dimensional Analysis and Boost::Units for SimTK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 type="subTitle"/>
          </p:nvPr>
        </p:nvSpPr>
        <p:spPr>
          <a:xfrm>
            <a:off x="1386000" y="3427560"/>
            <a:ext cx="723888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Christopher Brun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SimTK tech meeting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indent="0" algn="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7f0d28"/>
                </a:solidFill>
                <a:latin typeface="CKBruns3"/>
              </a:rPr>
              <a:t>March 2, 2009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1" name="Object 1024"/>
              <p:cNvSpPr txBox="1"/>
              <p:nvPr/>
            </p:nvSpPr>
            <p:spPr>
              <a:xfrm>
                <a:off x="1155600" y="4321080"/>
                <a:ext cx="4254480" cy="1165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F</m:t>
                    </m:r>
                    <m:r>
                      <m:t xml:space="preserve">=</m:t>
                    </m:r>
                    <m:r>
                      <m:t xml:space="preserve">m</m:t>
                    </m:r>
                    <m:r>
                      <m:t xml:space="preserve">v</m:t>
                    </m:r>
                    <m:r>
                      <m:rPr>
                        <m:lit/>
                        <m:nor/>
                      </m:rPr>
                      <m:t xml:space="preserve">?!?!</m:t>
                    </m:r>
                  </m:oMath>
                </a14:m>
              </a:p>
            </p:txBody>
          </p:sp>
        </mc:Choice>
        <mc:Fallback/>
      </mc:AlternateContent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990033"/>
                </a:solidFill>
                <a:latin typeface="CKBruns3"/>
              </a:rPr>
              <a:t>SI units (dimensions)</a:t>
            </a:r>
            <a:endParaRPr b="0" lang="en-US" sz="6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6" name=""/>
          <p:cNvSpPr txBox="1"/>
          <p:nvPr/>
        </p:nvSpPr>
        <p:spPr>
          <a:xfrm>
            <a:off x="1369800" y="175248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eter (length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ilogram (mass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econd (tim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ampere (electric curre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kelvin (temperature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ndela (luminous intensity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9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mole (amount)</a:t>
            </a:r>
            <a:endParaRPr b="0" lang="en-US" sz="36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77" name="Picture 4" descr=""/>
          <p:cNvPicPr/>
          <p:nvPr/>
        </p:nvPicPr>
        <p:blipFill>
          <a:blip r:embed="rId1"/>
          <a:stretch/>
        </p:blipFill>
        <p:spPr>
          <a:xfrm>
            <a:off x="5151600" y="2438280"/>
            <a:ext cx="487080" cy="609840"/>
          </a:xfrm>
          <a:prstGeom prst="rect">
            <a:avLst/>
          </a:prstGeom>
          <a:ln w="0">
            <a:noFill/>
          </a:ln>
        </p:spPr>
      </p:pic>
      <p:pic>
        <p:nvPicPr>
          <p:cNvPr id="178" name="Picture 5" descr="C:\Documents and Settings\Christopher.NEWNICK\My Documents\My Pictures\meter_stick.png"/>
          <p:cNvPicPr/>
          <p:nvPr/>
        </p:nvPicPr>
        <p:blipFill>
          <a:blip r:embed="rId2"/>
          <a:stretch/>
        </p:blipFill>
        <p:spPr>
          <a:xfrm>
            <a:off x="4648320" y="1981080"/>
            <a:ext cx="1828800" cy="1922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6" descr=""/>
          <p:cNvPicPr/>
          <p:nvPr/>
        </p:nvPicPr>
        <p:blipFill>
          <a:blip r:embed="rId3"/>
          <a:stretch/>
        </p:blipFill>
        <p:spPr>
          <a:xfrm>
            <a:off x="4457880" y="3009960"/>
            <a:ext cx="647640" cy="64764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7" descr=""/>
          <p:cNvPicPr/>
          <p:nvPr/>
        </p:nvPicPr>
        <p:blipFill>
          <a:blip r:embed="rId4"/>
          <a:stretch/>
        </p:blipFill>
        <p:spPr>
          <a:xfrm>
            <a:off x="6068880" y="4191120"/>
            <a:ext cx="179640" cy="98100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8" descr=""/>
          <p:cNvPicPr/>
          <p:nvPr/>
        </p:nvPicPr>
        <p:blipFill>
          <a:blip r:embed="rId5"/>
          <a:stretch/>
        </p:blipFill>
        <p:spPr>
          <a:xfrm>
            <a:off x="6705720" y="3505320"/>
            <a:ext cx="942840" cy="981000"/>
          </a:xfrm>
          <a:prstGeom prst="rect">
            <a:avLst/>
          </a:prstGeom>
          <a:ln w="0">
            <a:noFill/>
          </a:ln>
        </p:spPr>
      </p:pic>
      <p:pic>
        <p:nvPicPr>
          <p:cNvPr id="182" name="Picture 9" descr=""/>
          <p:cNvPicPr/>
          <p:nvPr/>
        </p:nvPicPr>
        <p:blipFill>
          <a:blip r:embed="rId6"/>
          <a:stretch/>
        </p:blipFill>
        <p:spPr>
          <a:xfrm>
            <a:off x="7086600" y="5029200"/>
            <a:ext cx="1066680" cy="693720"/>
          </a:xfrm>
          <a:prstGeom prst="rect">
            <a:avLst/>
          </a:prstGeom>
          <a:ln w="0">
            <a:noFill/>
          </a:ln>
        </p:spPr>
      </p:pic>
      <p:pic>
        <p:nvPicPr>
          <p:cNvPr id="183" name="Picture 10" descr=""/>
          <p:cNvPicPr/>
          <p:nvPr/>
        </p:nvPicPr>
        <p:blipFill>
          <a:blip r:embed="rId7"/>
          <a:stretch/>
        </p:blipFill>
        <p:spPr>
          <a:xfrm>
            <a:off x="4648320" y="5638680"/>
            <a:ext cx="866520" cy="8114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11" descr=""/>
          <p:cNvPicPr/>
          <p:nvPr/>
        </p:nvPicPr>
        <p:blipFill>
          <a:blip r:embed="rId8"/>
          <a:stretch/>
        </p:blipFill>
        <p:spPr>
          <a:xfrm>
            <a:off x="5791320" y="5638680"/>
            <a:ext cx="761760" cy="67320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13" descr="C:\Documents and Settings\Christopher.NEWNICK\My Documents\My Pictures\not_symbol.png"/>
          <p:cNvPicPr/>
          <p:nvPr/>
        </p:nvPicPr>
        <p:blipFill>
          <a:blip r:embed="rId9"/>
          <a:stretch/>
        </p:blipFill>
        <p:spPr>
          <a:xfrm>
            <a:off x="5759280" y="5548320"/>
            <a:ext cx="870120" cy="888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1295280" y="301320"/>
            <a:ext cx="731376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 System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914400" y="1692360"/>
          <a:ext cx="8001000" cy="4174920"/>
        </p:xfrm>
        <a:graphic>
          <a:graphicData uri="http://schemas.openxmlformats.org/drawingml/2006/table">
            <a:tbl>
              <a:tblPr/>
              <a:tblGrid>
                <a:gridCol w="2200320"/>
                <a:gridCol w="1800360"/>
                <a:gridCol w="1600200"/>
                <a:gridCol w="2400120"/>
              </a:tblGrid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Dimensio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SI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cg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000" spc="-1" strike="noStrike">
                          <a:solidFill>
                            <a:srgbClr val="ffffff"/>
                          </a:solidFill>
                          <a:latin typeface="CKBruns3"/>
                        </a:rPr>
                        <a:t>M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4c96c8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ength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enti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nanometer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ass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ilo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gram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dalton, gram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im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picosecond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1008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urre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pe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elementary charge/picosecond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[coulomb]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elementary charg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luminous intensity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candela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?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  <a:tr h="398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temperatur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kelvin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d0ddeb"/>
                    </a:solidFill>
                  </a:tcPr>
                </a:tc>
              </a:tr>
              <a:tr h="703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amount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000" spc="-1" strike="noStrike">
                          <a:solidFill>
                            <a:srgbClr val="7f0d28"/>
                          </a:solidFill>
                          <a:latin typeface="CKBruns3"/>
                        </a:rPr>
                        <a:t>molecule, item, mole/mole</a:t>
                      </a:r>
                      <a:endParaRPr b="0" lang="en-US" sz="2000" spc="-1" strike="noStrike">
                        <a:solidFill>
                          <a:srgbClr val="7f0d28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9eff5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Angle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hose aren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’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 on the SI units!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plane_angle and solid_angle are in Boost::Unit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 exponents are zero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gles are dimensionl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but have unit conversion issues: degrees, radians, cycle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olid angle: steradia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0" name="Picture 1029" descr="C:\Documents and Settings\Christopher.NEWNICK\My Documents\My Pictures\629px-Small_solid_angle.svg.png"/>
          <p:cNvPicPr/>
          <p:nvPr/>
        </p:nvPicPr>
        <p:blipFill>
          <a:blip r:embed="rId1"/>
          <a:stretch/>
        </p:blipFill>
        <p:spPr>
          <a:xfrm>
            <a:off x="5538960" y="4840200"/>
            <a:ext cx="1776240" cy="1695600"/>
          </a:xfrm>
          <a:prstGeom prst="rect">
            <a:avLst/>
          </a:prstGeom>
          <a:ln w="0">
            <a:noFill/>
          </a:ln>
        </p:spPr>
      </p:pic>
      <p:pic>
        <p:nvPicPr>
          <p:cNvPr id="191" name="Picture 1030" descr="C:\Documents and Settings\Christopher.NEWNICK\My Documents\My Pictures\radian.png"/>
          <p:cNvPicPr/>
          <p:nvPr/>
        </p:nvPicPr>
        <p:blipFill>
          <a:blip r:embed="rId2"/>
          <a:stretch/>
        </p:blipFill>
        <p:spPr>
          <a:xfrm>
            <a:off x="4167360" y="104760"/>
            <a:ext cx="1547640" cy="1562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Dimensions, Units, and Quantitie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length, time, mas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nteger template argum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usually only 3-7 dimensions used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kilograms, nanometers, Angstrom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have dimension exponen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rarely create new on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.g. speed of light, mass of carbon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expressed in unit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both Units and Quantities are templated type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at is Boost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 set of about 104 free peer-reviewed portable C++ source librari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Part of emerging C++ standard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any Boost libraries are part of the new C++0x Standard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83280" indent="-262800">
              <a:spcBef>
                <a:spcPts val="624"/>
              </a:spcBef>
              <a:buClr>
                <a:srgbClr val="dcb568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more Boost libraries will be in future standard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http://www.boost.org/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ctive community since 1998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15360" indent="-315360">
              <a:spcBef>
                <a:spcPts val="726"/>
              </a:spcBef>
              <a:buClr>
                <a:srgbClr val="990033"/>
              </a:buClr>
              <a:buFont typeface="Wingdings" charset="2"/>
              <a:buChar char="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vanced C++ expert guru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6" name="Picture 1028" descr=""/>
          <p:cNvPicPr/>
          <p:nvPr/>
        </p:nvPicPr>
        <p:blipFill>
          <a:blip r:embed="rId1"/>
          <a:srcRect l="0" t="0" r="6932" b="0"/>
          <a:stretch/>
        </p:blipFill>
        <p:spPr>
          <a:xfrm>
            <a:off x="4800600" y="304920"/>
            <a:ext cx="354636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Boost::Units library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9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Zero-overhead dimensional analysis and unit/quantity manipulation and conversion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Primary authors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Matthias C. Schabel  - Assistant professor at University of Utah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Steven Watanabe - Boost developer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Reviewed March/April 2007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t least 30 people participated in the review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marL="301680" indent="-301680">
              <a:spcBef>
                <a:spcPts val="624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500" spc="-1" strike="noStrike">
                <a:solidFill>
                  <a:srgbClr val="7f0d28"/>
                </a:solidFill>
                <a:latin typeface="CKBruns3"/>
              </a:rPr>
              <a:t>Boost::Units version 1.0.0 released 1.5 years la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August 2008, in boost version 1.36.0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5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100" spc="-1" strike="noStrike">
                <a:solidFill>
                  <a:srgbClr val="7f0d28"/>
                </a:solidFill>
                <a:latin typeface="CKBruns3"/>
              </a:rPr>
              <a:t>(boost 1.38.0 was released Feb 8, 2009)</a:t>
            </a:r>
            <a:endParaRPr b="0" lang="en-US" sz="21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199" name="Picture 4" descr=""/>
          <p:cNvPicPr/>
          <p:nvPr/>
        </p:nvPicPr>
        <p:blipFill>
          <a:blip r:embed="rId1"/>
          <a:stretch/>
        </p:blipFill>
        <p:spPr>
          <a:xfrm>
            <a:off x="304920" y="2590920"/>
            <a:ext cx="110484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Why use Boost::Units?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1" name=""/>
          <p:cNvSpPr txBox="1"/>
          <p:nvPr/>
        </p:nvSpPr>
        <p:spPr>
          <a:xfrm>
            <a:off x="1369800" y="1827360"/>
            <a:ext cx="7545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7000"/>
          </a:bodyPr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ype safety: avoid misusing methods.  Compar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Real, Real, Vec3, Real, Vec3, Real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void foo(Mass, Area, Velocity, Energy, Force, Time);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298440" indent="-2984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et units at the sourc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compar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*Deg2Rad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and </a:t>
            </a: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90)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 both compile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2" marL="994320" indent="-198720">
              <a:lnSpc>
                <a:spcPct val="100000"/>
              </a:lnSpc>
              <a:spcBef>
                <a:spcPts val="550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foo( (angle_t) (90*degrees) ) </a:t>
            </a:r>
            <a:r>
              <a:rPr b="0" lang="en-US" sz="2200" spc="-1" strike="noStrike">
                <a:solidFill>
                  <a:srgbClr val="7f0d28"/>
                </a:solidFill>
                <a:latin typeface="CKBruns3"/>
              </a:rPr>
              <a:t>just works</a:t>
            </a:r>
            <a:endParaRPr b="0" lang="en-US" sz="2200" spc="-1" strike="noStrike">
              <a:solidFill>
                <a:srgbClr val="7f0d28"/>
              </a:solidFill>
              <a:latin typeface="CKBruns3"/>
            </a:endParaRPr>
          </a:p>
          <a:p>
            <a:pPr lvl="1" marL="646200" indent="-24840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void crashing NASA Mars Climate Orbiter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Why not use Boost::Units?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lower compil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dditional dependency on Boost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Restricts C++ compilers to modern o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Any SimTK API changes require lucid analysi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Templates are confus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Nimble support from developer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5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aturday, Jan 3, I wrote a detailed report about trouble I was having to boost-users mailing list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onday morning, Jan 5, both primary authors of Boost::Units responded with helpful suggestion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9040" indent="-3290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1.5 hours later, Steven Watanabe checked a bug fix into the boost repositor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428480" y="3805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 are converted at compile time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7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n declaration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md::length_t bondLength(1.53 * md::angstroms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nanometer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Via type cast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51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7f0d28"/>
                </a:solidFill>
                <a:latin typeface="Consolas"/>
              </a:rPr>
              <a:t>setAngle( (angle_t) (24.5 * degrees) );</a:t>
            </a:r>
            <a:endParaRPr b="0" lang="en-US" sz="18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(secretly converts to radians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Picture 3" descr="DnaModel.jpg"/>
          <p:cNvPicPr/>
          <p:nvPr/>
        </p:nvPicPr>
        <p:blipFill>
          <a:blip r:embed="rId1"/>
          <a:stretch/>
        </p:blipFill>
        <p:spPr>
          <a:xfrm>
            <a:off x="4800600" y="1536840"/>
            <a:ext cx="4343400" cy="5040000"/>
          </a:xfrm>
          <a:prstGeom prst="rect">
            <a:avLst/>
          </a:prstGeom>
          <a:ln w="0">
            <a:noFill/>
          </a:ln>
        </p:spPr>
      </p:pic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How I spent my Christmas vacation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370160" y="1827360"/>
            <a:ext cx="373536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4000"/>
          </a:bodyPr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cott Woody/Zev Bryant coarse grained DNA model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NAmodel project uses SimTK and Boost::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22200" indent="-322200">
              <a:spcBef>
                <a:spcPts val="726"/>
              </a:spcBef>
              <a:buClr>
                <a:srgbClr val="9900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Other details to be presented another day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MD Units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09" name=""/>
          <p:cNvSpPr txBox="1"/>
          <p:nvPr/>
        </p:nvSpPr>
        <p:spPr>
          <a:xfrm>
            <a:off x="1369800" y="1827000"/>
            <a:ext cx="7621560" cy="1144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Boost::Units has SI and cgs unit system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wrote an MD units system in about 300 line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294840" indent="-29484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  <p:sp>
        <p:nvSpPr>
          <p:cNvPr id="210" name="TextBox 4"/>
          <p:cNvSpPr/>
          <p:nvPr/>
        </p:nvSpPr>
        <p:spPr>
          <a:xfrm>
            <a:off x="1074600" y="2895480"/>
            <a:ext cx="7612200" cy="338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Example code from md_units.hpp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d_base_unit&l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i::meter_base_unit,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    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scale&lt;10, static_rational&lt;-9&gt; &gt; 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   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&gt; nanometer_base_unit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nanometer_base_unit::unit_type nanometer_uni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BOOST_UNITS_STATIC_CONSTANT(nanometers, nanometer_unit)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600" spc="-1" strike="noStrike">
                <a:solidFill>
                  <a:srgbClr val="151bff"/>
                </a:solidFill>
                <a:latin typeface="Consolas"/>
              </a:rPr>
              <a:t>quantity&lt;nanometer_unit, SimTK::Real&gt; 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KBruns3"/>
              </a:rPr>
              <a:t>...so you can do this</a:t>
            </a:r>
            <a:endParaRPr b="0" lang="en-US" sz="20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151bff"/>
                </a:solidFill>
                <a:uFillTx/>
                <a:latin typeface="Consolas"/>
              </a:rPr>
              <a:t>length_t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bondLength( 0.152 * </a:t>
            </a:r>
            <a:r>
              <a:rPr b="0" lang="en-US" sz="1600" spc="-1" strike="noStrike" u="sng">
                <a:solidFill>
                  <a:srgbClr val="7f0d28"/>
                </a:solidFill>
                <a:uFillTx/>
                <a:latin typeface="Consolas"/>
              </a:rPr>
              <a:t>nanometers</a:t>
            </a:r>
            <a:r>
              <a:rPr b="0" lang="en-US" sz="1600" spc="-1" strike="noStrike">
                <a:solidFill>
                  <a:srgbClr val="7f0d28"/>
                </a:solidFill>
                <a:latin typeface="Consolas"/>
              </a:rPr>
              <a:t> ); </a:t>
            </a:r>
            <a:r>
              <a:rPr b="0" lang="en-US" sz="1600" spc="-1" strike="noStrike">
                <a:solidFill>
                  <a:srgbClr val="00b050"/>
                </a:solidFill>
                <a:latin typeface="Consolas"/>
              </a:rPr>
              <a:t>// quantity example</a:t>
            </a:r>
            <a:endParaRPr b="0" lang="en-US" sz="1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Vectors and other numeric types work too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2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I did this..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b050"/>
                </a:solidFill>
                <a:latin typeface="Consolas"/>
              </a:rPr>
              <a:t>// note optional value type argument, Vec3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quantity&lt; unit&lt;length_dimension, md_units_system&gt;, SimTK::Vec3 &gt; 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...so you can do this: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51bff"/>
                </a:solidFill>
                <a:latin typeface="Consolas"/>
              </a:rPr>
              <a:t>location_t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atomPos( Vec3(1,0,0)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990033"/>
                </a:solidFill>
                <a:latin typeface="CKBruns3"/>
              </a:rPr>
              <a:t>Lack of units in some standard library methods</a:t>
            </a:r>
            <a:endParaRPr b="0" lang="en-US" sz="40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4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pecialized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i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cos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tan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 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atan2()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,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etc. that use angle unit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dimensionless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 = boost::units::sin(</a:t>
            </a: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angle</a:t>
            </a: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)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I still need to add specialized dot() and cross() methods for Vec3 quantitie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Pla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21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 Boost::Units in Molmodel API for SimTK 2.0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What if the user has boost installed already?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library builder: needs a new CMake variable to choose boost library location.  Initial default to boost-in-SimTK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914400" indent="-457200">
              <a:spcBef>
                <a:spcPts val="624"/>
              </a:spcBef>
              <a:buClr>
                <a:srgbClr val="dcb568"/>
              </a:buClr>
              <a:buFont typeface="CKBruns3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SimTK API user: set Include path for local boost before SimTK, if desired.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</p:txBody>
      </p:sp>
      <p:pic>
        <p:nvPicPr>
          <p:cNvPr id="217" name="Picture 7" descr="C:\Documents and Settings\Christopher.NEWNICK\My Documents\My Pictures\get-boost.png"/>
          <p:cNvPicPr/>
          <p:nvPr/>
        </p:nvPicPr>
        <p:blipFill>
          <a:blip r:embed="rId1"/>
          <a:stretch/>
        </p:blipFill>
        <p:spPr>
          <a:xfrm>
            <a:off x="3962520" y="41400"/>
            <a:ext cx="1523880" cy="1482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Text Box 2"/>
          <p:cNvSpPr/>
          <p:nvPr/>
        </p:nvSpPr>
        <p:spPr>
          <a:xfrm>
            <a:off x="2007720" y="1371600"/>
            <a:ext cx="5584680" cy="474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500" spc="-1" strike="noStrike">
                <a:solidFill>
                  <a:srgbClr val="7f0d28"/>
                </a:solidFill>
                <a:latin typeface="CKBruns3"/>
              </a:rPr>
              <a:t>Fin</a:t>
            </a:r>
            <a:endParaRPr b="0" lang="en-US" sz="305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Goal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1219320" y="1752480"/>
            <a:ext cx="77738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7f0d28"/>
                </a:solidFill>
                <a:latin typeface="CKBruns3"/>
              </a:rPr>
              <a:t>Stronger scientific computing environment</a:t>
            </a:r>
            <a:endParaRPr b="0" lang="en-US" sz="32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Increased type safety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ore numeric types = less opportunity for confusion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unit conversion errors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ASA should try this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1" marL="653760" indent="-251280">
              <a:spcBef>
                <a:spcPts val="700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f0d28"/>
                </a:solidFill>
                <a:latin typeface="CKBruns3"/>
              </a:rPr>
              <a:t>Avoid slowing computation</a:t>
            </a:r>
            <a:endParaRPr b="0" lang="en-US" sz="28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t the expense of longer compile time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lvl="2" marL="1005840" indent="-20088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 particular strength of C++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mc:AlternateContent>
        <mc:Choice xmlns:a14="http://schemas.microsoft.com/office/drawing/2010/main" Requires="a14">
          <p:sp>
            <p:nvSpPr>
              <p:cNvPr id="158" name="Object 2"/>
              <p:cNvSpPr txBox="1"/>
              <p:nvPr/>
            </p:nvSpPr>
            <p:spPr>
              <a:xfrm>
                <a:off x="3124080" y="1676520"/>
                <a:ext cx="4724640" cy="458928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eqArr>
                      <m:e>
                        <m:r>
                          <m:t xml:space="preserve">F</m:t>
                        </m:r>
                        <m:r>
                          <m:t xml:space="preserve">=</m:t>
                        </m:r>
                        <m:r>
                          <m:t xml:space="preserve">m</m:t>
                        </m:r>
                        <m:r>
                          <m:t xml:space="preserve">a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force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acceleration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</m:e>
                      <m:e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number</m:t>
                        </m:r>
                        <m:r>
                          <m:t xml:space="preserve">⋅</m:t>
                        </m:r>
                        <m:r>
                          <m:rPr>
                            <m:lit/>
                            <m:nor/>
                          </m:rPr>
                          <m:t xml:space="preserve">vector</m:t>
                        </m:r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kg</m:t>
                            </m:r>
                            <m:r>
                              <m:t xml:space="preserve">⋅</m:t>
                            </m:r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kg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t xml:space="preserve">m</m:t>
                            </m:r>
                          </m:num>
                          <m:den>
                            <m:sSup>
                              <m:e>
                                <m:r>
                                  <m:t xml:space="preserve">s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  <m:e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mass</m:t>
                            </m:r>
                            <m:r>
                              <m:t xml:space="preserve">⋅</m:t>
                            </m:r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  <m:r>
                          <m:t xml:space="preserve">=</m:t>
                        </m:r>
                        <m:r>
                          <m:rPr>
                            <m:lit/>
                            <m:nor/>
                          </m:rPr>
                          <m:t xml:space="preserve">mass</m:t>
                        </m:r>
                        <m:r>
                          <m:t xml:space="preserve">⋅</m:t>
                        </m:r>
                        <m:f>
                          <m:num>
                            <m:r>
                              <m:rPr>
                                <m:lit/>
                                <m:nor/>
                              </m:rPr>
                              <m:t xml:space="preserve">length</m:t>
                            </m:r>
                          </m:num>
                          <m:den>
                            <m:sSup>
                              <m:e>
                                <m:r>
                                  <m:rPr>
                                    <m:lit/>
                                    <m:nor/>
                                  </m:rPr>
                                  <m:t xml:space="preserve">time</m:t>
                                </m:r>
                              </m:e>
                              <m:sup>
                                <m:r>
                                  <m:t xml:space="preserve">2</m:t>
                                </m:r>
                              </m:sup>
                            </m:sSup>
                          </m:den>
                        </m:f>
                      </m:e>
                    </m:eqArr>
                  </m:oMath>
                </a14:m>
              </a:p>
            </p:txBody>
          </p:sp>
        </mc:Choice>
        <mc:Fallback/>
      </mc:AlternateContent>
      <p:sp>
        <p:nvSpPr>
          <p:cNvPr id="159" name="TextBox 4"/>
          <p:cNvSpPr/>
          <p:nvPr/>
        </p:nvSpPr>
        <p:spPr>
          <a:xfrm>
            <a:off x="1745640" y="4383000"/>
            <a:ext cx="1245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unit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0" name="TextBox 5"/>
          <p:cNvSpPr/>
          <p:nvPr/>
        </p:nvSpPr>
        <p:spPr>
          <a:xfrm>
            <a:off x="568800" y="5450040"/>
            <a:ext cx="266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dimension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1" name="TextBox 6"/>
          <p:cNvSpPr/>
          <p:nvPr/>
        </p:nvSpPr>
        <p:spPr>
          <a:xfrm>
            <a:off x="1162080" y="1639800"/>
            <a:ext cx="1957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symbol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2" name="TextBox 7"/>
          <p:cNvSpPr/>
          <p:nvPr/>
        </p:nvSpPr>
        <p:spPr>
          <a:xfrm>
            <a:off x="1471680" y="2286000"/>
            <a:ext cx="1623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names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3" name="TextBox 8"/>
          <p:cNvSpPr/>
          <p:nvPr/>
        </p:nvSpPr>
        <p:spPr>
          <a:xfrm>
            <a:off x="164880" y="293544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1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64" name="TextBox 9"/>
          <p:cNvSpPr/>
          <p:nvPr/>
        </p:nvSpPr>
        <p:spPr>
          <a:xfrm>
            <a:off x="146880" y="3581280"/>
            <a:ext cx="2870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7f0d28"/>
                </a:solidFill>
                <a:latin typeface="CKBruns3"/>
              </a:rPr>
              <a:t>calculation 2</a:t>
            </a:r>
            <a:endParaRPr b="0" lang="en-US" sz="36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136980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990033"/>
                </a:solidFill>
                <a:latin typeface="CKBruns3"/>
              </a:rPr>
              <a:t>Dimensional Analysis</a:t>
            </a:r>
            <a:endParaRPr b="0" lang="en-US" sz="36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ful sanity check on relations in science and engineering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Wingdings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Many high school physics exam problems can be solved by dimensional analysis alone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Units-aware programming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68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first should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velocity; // oops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Force force = mass * acceleration; // OK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nits conversion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this should do the right thing (convert to nm)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spcBef>
                <a:spcPts val="624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7f0d28"/>
                </a:solidFill>
                <a:latin typeface="CKBruns3"/>
              </a:rPr>
              <a:t>// or otherwise at least fail to compile</a:t>
            </a:r>
            <a:endParaRPr b="0" lang="en-US" sz="25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7f0d28"/>
                </a:solidFill>
                <a:latin typeface="Consolas"/>
              </a:rPr>
              <a:t>setBondLength( 1.52 * angstroms );</a:t>
            </a: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  <a:p>
            <a:pPr lvl="1" marL="743040" indent="-285840">
              <a:lnSpc>
                <a:spcPct val="100000"/>
              </a:lnSpc>
              <a:spcBef>
                <a:spcPts val="499"/>
              </a:spcBef>
              <a:buClr>
                <a:srgbClr val="dcb56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C++ implementation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0" name=""/>
          <p:cNvSpPr txBox="1"/>
          <p:nvPr/>
        </p:nvSpPr>
        <p:spPr>
          <a:xfrm>
            <a:off x="1369800" y="182736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Uses arcane template tricks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Dimensional correctness is enforced at compile time.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  <a:p>
            <a:pPr marL="343080" indent="-343080">
              <a:spcBef>
                <a:spcPts val="726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No run time penalty with a 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“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sufficiently optimizing</a:t>
            </a:r>
            <a:r>
              <a:rPr b="0" lang="en-US" sz="2900" spc="-1" strike="noStrike">
                <a:solidFill>
                  <a:srgbClr val="7f0d28"/>
                </a:solidFill>
                <a:latin typeface="Arial"/>
              </a:rPr>
              <a:t>”</a:t>
            </a:r>
            <a:r>
              <a:rPr b="0" lang="en-US" sz="2900" spc="-1" strike="noStrike">
                <a:solidFill>
                  <a:srgbClr val="7f0d28"/>
                </a:solidFill>
                <a:latin typeface="CKBruns3"/>
              </a:rPr>
              <a:t> compiler</a:t>
            </a:r>
            <a:endParaRPr b="0" lang="en-US" sz="29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1428480" y="301320"/>
            <a:ext cx="7313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0033"/>
                </a:solidFill>
                <a:latin typeface="CKBruns3"/>
              </a:rPr>
              <a:t>History of C++ template trick</a:t>
            </a:r>
            <a:endParaRPr b="0" lang="en-US" sz="4400" spc="-1" strike="noStrike">
              <a:solidFill>
                <a:srgbClr val="990033"/>
              </a:solidFill>
              <a:latin typeface="CKBruns3"/>
            </a:endParaRPr>
          </a:p>
        </p:txBody>
      </p:sp>
      <p:sp>
        <p:nvSpPr>
          <p:cNvPr id="172" name=""/>
          <p:cNvSpPr txBox="1"/>
          <p:nvPr/>
        </p:nvSpPr>
        <p:spPr>
          <a:xfrm>
            <a:off x="1369800" y="1676520"/>
            <a:ext cx="7313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4000"/>
          </a:bodyPr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1994 - Barton, John J., and Lee R. Nackman: </a:t>
            </a:r>
            <a:r>
              <a:rPr b="0" i="1" lang="en-US" sz="2400" spc="-1" strike="noStrike">
                <a:solidFill>
                  <a:srgbClr val="7f0d28"/>
                </a:solidFill>
                <a:latin typeface="CKBruns3"/>
              </a:rPr>
              <a:t>Scientific and Engineering C++</a:t>
            </a: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. Addison-Wesley, 1994. ISBN 0-201-53393-6. 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Nov 2003 – Matthias Schabel submits mcs::units library to Boost; does not make it to formal revie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7 - I made an implementation for Molmodel.  Sherm was skeptical; productionalizing might be too much work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March/April 2007 boost::units is resurrected and reviewed.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August 2008 - Boost::Units is released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  <a:p>
            <a:pPr marL="288000" indent="-288000">
              <a:spcBef>
                <a:spcPts val="601"/>
              </a:spcBef>
              <a:buClr>
                <a:srgbClr val="9900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7f0d28"/>
                </a:solidFill>
                <a:latin typeface="CKBruns3"/>
              </a:rPr>
              <a:t>2009 - Perhaps we can try again now</a:t>
            </a:r>
            <a:endParaRPr b="0" lang="en-US" sz="2400" spc="-1" strike="noStrike">
              <a:solidFill>
                <a:srgbClr val="7f0d28"/>
              </a:solidFill>
              <a:latin typeface="CKBruns3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3"/>
          <p:cNvSpPr/>
          <p:nvPr/>
        </p:nvSpPr>
        <p:spPr>
          <a:xfrm>
            <a:off x="1600200" y="0"/>
            <a:ext cx="754380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7f0d28"/>
              </a:solidFill>
              <a:latin typeface="Arial"/>
            </a:endParaRPr>
          </a:p>
        </p:txBody>
      </p:sp>
      <p:sp>
        <p:nvSpPr>
          <p:cNvPr id="174" name="TextBox 2"/>
          <p:cNvSpPr/>
          <p:nvPr/>
        </p:nvSpPr>
        <p:spPr>
          <a:xfrm>
            <a:off x="1676520" y="52560"/>
            <a:ext cx="7391160" cy="702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Simplified example of Barton/Nackman Physical Quantity techniqu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Integer template arguments are exponents of Mass, Length, and Ti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struc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number is wrapped in her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explici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floa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al) : val(val) {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Addition only works for quantities with the same dimensions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+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,L,T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+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Result of multiplication has a composite dimension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emplate&lt;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L2,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int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2&gt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operator*(const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2,L2,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&amp; rhs) const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return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M+M2,L+L2,T+T2&gt;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(val*rhs.val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0,  0&gt; 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 0&gt; 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1&gt; 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1&gt; 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1, -2&gt; Acceleration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1, 1, -2&gt; Forc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typedef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Quantity&lt;0, 0,  0&gt; Dimensionle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oid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est() {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Time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time(2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Velocity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velocity(3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(4.0);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ance = velocity * time</a:t>
            </a:r>
            <a:r>
              <a:rPr b="0" lang="en-US" sz="1200" spc="-1" strike="noStrike">
                <a:solidFill>
                  <a:srgbClr val="c00000"/>
                </a:solidFill>
                <a:latin typeface="Consolas"/>
              </a:rPr>
              <a:t>;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 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Length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distence = velocity *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ass2 = mass + mass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OK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   </a:t>
            </a:r>
            <a:r>
              <a:rPr b="0" lang="en-US" sz="1200" spc="-1" strike="noStrike">
                <a:solidFill>
                  <a:srgbClr val="ed2556"/>
                </a:solidFill>
                <a:latin typeface="Consolas"/>
              </a:rPr>
              <a:t>MassQ</a:t>
            </a: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 mess = mass + time; </a:t>
            </a:r>
            <a:r>
              <a:rPr b="0" lang="en-US" sz="1200" spc="-1" strike="noStrike">
                <a:solidFill>
                  <a:srgbClr val="00b050"/>
                </a:solidFill>
                <a:latin typeface="Consolas"/>
              </a:rPr>
              <a:t>// won't compile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7f0d28"/>
                </a:solidFill>
                <a:latin typeface="Consolas"/>
              </a:rPr>
              <a:t>}</a:t>
            </a:r>
            <a:endParaRPr b="0" lang="en-US" sz="1200" spc="-1" strike="noStrike">
              <a:solidFill>
                <a:srgbClr val="7f0d28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35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27T16:06:22Z</dcterms:created>
  <dc:creator>user</dc:creator>
  <dc:description/>
  <dc:language>en-US</dc:language>
  <cp:lastModifiedBy>Simbios</cp:lastModifiedBy>
  <dcterms:modified xsi:type="dcterms:W3CDTF">2009-03-03T00:00:32Z</dcterms:modified>
  <cp:revision>90</cp:revision>
  <dc:subject/>
  <dc:title>Dimensional Analysis and Boost::Units for SimTK</dc:title>
</cp:coreProperties>
</file>