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28803"/>
        <c:axId val="97519016"/>
      </c:barChart>
      <c:catAx>
        <c:axId val="92428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19016"/>
        <c:crosses val="autoZero"/>
        <c:auto val="1"/>
        <c:lblAlgn val="ctr"/>
        <c:lblOffset val="100"/>
        <c:noMultiLvlLbl val="0"/>
      </c:catAx>
      <c:valAx>
        <c:axId val="97519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28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E7C-6317-4161-B24C-F69035A0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BC7-B6C8-4358-A7E0-1FB8953D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653-4F70-4AB9-918B-FABBECF2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7FD-5804-4F52-85A0-168BFAE6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F35-5292-45BE-BC1A-AC814349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C68-B4B2-43BC-95B8-7A070F92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408-6ED8-4F35-A2D5-C218ABB1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EAC-7A0E-4A7D-BB04-3AE77F9A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E79-5FF9-472A-BDBE-8EDEE959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609-3161-4A90-BC81-BAE9A599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FBD-BAA8-44DB-9D80-44EB2271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31A-A589-4339-B8CC-CF61BEF1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8E9B0-F7C5-4532-812D-CFAEE796F3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