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524626"/>
        <c:axId val="53232317"/>
      </c:barChart>
      <c:catAx>
        <c:axId val="835246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232317"/>
        <c:crosses val="autoZero"/>
        <c:auto val="1"/>
        <c:lblAlgn val="ctr"/>
        <c:lblOffset val="100"/>
        <c:noMultiLvlLbl val="0"/>
      </c:catAx>
      <c:valAx>
        <c:axId val="532323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5246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B43D-5661-4534-B0F2-3A8F1E56C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8335-A38A-4BD3-A40D-46EF8A79A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8F84-BCA1-4CA8-ACF9-20D292AB9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AE8E-FB39-416B-9EB0-1EA0C10DF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4ABF-66FB-4274-A157-19600167B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84DD-3D2E-419F-B419-BCE0A9ACD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59A9-B00F-46A9-BF40-64D6B4FD9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403C-C62A-4B77-B74D-DDF60F982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950C-65DC-444B-9452-5CB907636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2801-5E51-48CD-9D8C-BC33C02B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DF05-EF34-4A6C-B56C-64CD6885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B0EB-D053-4648-A981-89658BF5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F3302C-16CD-4E18-B7FA-62CB577D61F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