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583346"/>
        <c:axId val="37656438"/>
      </c:barChart>
      <c:catAx>
        <c:axId val="155833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656438"/>
        <c:crosses val="autoZero"/>
        <c:auto val="1"/>
        <c:lblAlgn val="ctr"/>
        <c:lblOffset val="100"/>
        <c:noMultiLvlLbl val="0"/>
      </c:catAx>
      <c:valAx>
        <c:axId val="376564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5833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761B-061D-4200-AC2B-03A6C9CCB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FB8D-1E01-4275-AC6D-822DAD36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F170-3F04-495F-B711-EC7AA0CF5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B3A8-D207-45F5-B275-48AA7A1AB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0140-EBF7-4B83-82FB-8DA9A430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5537-33C4-441A-BEFA-2A0E22DF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79B0-F6A2-460C-AA33-C619ECF6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BC34-4EF2-40A3-A88F-ED505B07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9777-FAEF-40F2-ADEE-A2C8DB23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2E55-3ADD-4DF4-A0DF-DC6A561B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5B12-9AEB-4F00-A796-6CB34FD9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6550-FB84-49F4-A662-1372EF24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3DAB7-D25B-4CFD-982B-FDD0562874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