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431C3B6-365D-4C5D-A3C3-A151C35CA93F}"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4A3CBD4-FADF-4592-AD55-CC9B3F88BAA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82ECE1B-31EB-4C96-8023-DCC7542B0A9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35D5874F-7A3A-487E-82B0-0749D2FF9141}"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D6B56C5-52B5-4F1A-9823-83E8D046C9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93344E-6AA7-42CF-9A46-289E4676AC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AFD8D19-AA78-4AB6-BC44-0057157A6C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2B20B23-6BE4-4DB9-BCFE-3EB60854416E}"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A59D2F8-D676-42D5-B6D8-131D7DBD3129}"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F3545ACB-2904-4E10-AF7B-AF1ACDEF5F8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BDC9D73-DC12-43F8-9145-83F3E4EA130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BD3309B-5CE2-4638-BAC1-A13FAFD18E1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9B1743A-073A-4BDB-AC6D-0E8FDD86EAF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B393E607-D6B1-4D46-8C2D-B22AB7D5D170}"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222D4CD7-C2AF-4562-B920-A1C46ED0474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7AA4B9A6-7CE9-4259-9C26-81C3E24FD30A}"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7350DF-97FC-4D32-82E8-A96D3F23B19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2330E1BD-8C86-4BEE-894F-C5E8D918EA1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D2DE3C5F-E1E0-4A94-98AF-79BEE9271FE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B833839-EC1A-479A-9A39-04CB700054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E4FAB58D-9DE9-429D-8146-9B05C51F945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4A425C44-30C7-4D31-ADE7-39183EF8BB0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6268479-BE5B-445D-B0A3-8CE745ADD844}"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4F6186C-962C-47EF-9D0E-50F0F232264C}"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60605FE-1C50-4EB5-8E13-09C03FD4BA6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E9F650E6-36C4-4750-AF3F-BF83D055548B}"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03A8F795-A743-44D6-9C63-1EE886F7FF9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84464A-2CEF-4787-8039-E69231D2D2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560292C5-4FA5-4989-B470-74475B5D325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807F1E6-3ABD-457A-A04A-E45AA59AFB7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B56F5E4-2D7E-4FD7-BD3D-0F92E6646E1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E95AC32-F671-43F5-A036-EFBB12AF5CA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F92416D0-476B-4D4B-97CD-453228D0283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F1714460-A1BA-401A-B671-135BDC0D850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16E8E98-5961-458D-ABCC-271FE09ECA18}"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DDF24DE-F347-457A-9D92-6064ABDADD2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E01AE41B-9614-4E49-9D43-013F4C1484A8}"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D397C81-F55A-4886-AB5F-6CA4E3E11408}"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4D42C35F-3F6E-4843-A499-DC6694F8D7E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B687B1C-F951-4729-90E3-92F6C5FBAEF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6C9446E2-3784-4EEC-843B-DBF8DD20C24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1DE8EDE4-EBDE-4713-8188-9914787212F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9326559B-A485-42F6-B37B-97ACCCB3B7CE}"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91870839-F311-4314-9712-F6B327669F5B}"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0D45F56C-C3A2-4E5F-830C-93A6E7C77EF4}"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8BD4343-A9F9-466C-8A85-A7D19A9BF57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9FBADC3-A2D6-417C-B35F-289F4863665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833D54A9-5639-4FB5-A194-A738F90AE9FC}"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2D5BDF61-7C0C-47F8-AB72-43BDE42B34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B30D1A8-9C37-4BF9-9D92-480014FFAA7C}"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1014BA0-2BFF-4D79-97F1-8FFDECD934B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044BC93-1587-4F7F-809F-DA1C15D9CE7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945529E-511F-419A-A17A-1D653FC7CC6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513C8335-7DBB-48CD-AEC0-C080794A3AD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D7F0A65-0661-44EE-AA36-1763C141ABC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68711C5A-933E-43AA-BCAC-5693A7A2D4C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55A513A-D324-438E-9B0D-92990844B4AF}"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CAA4099-8D58-4CFF-B0ED-B657E9A1EE6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73A1C445-C50D-4DA1-B35C-1E5DEA59F55A}"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DEB8F9E0-401E-48D8-A03F-CC583D6D85DE}"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929A4C0-D0DE-44E1-A3C8-1819B71DB56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271B814B-00EB-4A14-A2BD-1A60F02CA612}"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F2D995D3-7175-4AAF-BFF7-CFD8FF1E447B}"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14909B0D-990A-44BB-9A91-6736C4B5AE2A}"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0EEB19FD-0B3D-4618-9EFF-589207B60E7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0FDC84-29DD-4D76-962B-C7F50859E89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E98743BD-F119-42F3-B88C-255B72854D9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9033088-3B7E-4C88-9EB9-CFD794714B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95830E7-4D04-4E9D-97E9-15E54B2C225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117D4A1-6FCF-4ACC-9170-733548C507EA}"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646F5C3C-3965-4000-AF51-AF903C537B98}"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3850B6D6-2851-4E27-A052-39B124802C9A}"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8EC44E27-26AE-43BD-B400-73EA2FEB400A}"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F8A73D74-CF04-418F-A660-985F37C0EA8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C12BF1A7-3C94-43F6-952E-6A274A2E7415}"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459831C-EC91-4CED-B5B9-6F279F9DE5A7}"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3FF4A9E6-562C-4210-AC93-EAB223F67F74}"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98DE90B-2DEA-4C4C-91F9-217602CAA61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3C6C9A41-4215-4E2D-B444-1B600938B278}"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06B1B1-8E6A-4DF1-9569-9803B425BB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1FDD44B-33AF-4F05-8328-12D8693052A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60C9753-36F5-4712-8E96-AC6F775D076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A3E036E9-B540-4703-9DF4-0673FCE73E1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301BA672-BB3C-4EEB-96EE-6EA6E790F062}"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47A5C368-1C1F-4A6D-BD03-0ED7DC485E24}"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4330540-A4CD-4E23-9B1F-BC42675F4E3E}"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E5C93E96-A505-480A-A446-B9289D60B63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43E777C1-F082-414B-8C52-DE430CE07BA3}"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E55D22-6266-4FA9-967C-21D56DE47F05}"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E96098B-50BA-4B08-9C23-03028CFBD0BD}"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B70495C-545C-4DFC-B8D6-92D3E4DB00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D483F57-6628-412E-AA76-A7C7B0F0A7A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4F4E189D-3CD1-4A22-B44F-5B9AAE7D55A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ED1FD5B-4D2D-4137-BBDD-CCD96B63D042}"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2100206D-AAA9-46F5-9523-895A2721AFA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73A30F2E-7A38-4DAA-98A6-451F3FDCCE1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F30AE05C-3C84-4F88-BDBF-11BB45F24877}"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F723FD64-AAD8-456E-9428-41E6E32BDD4C}"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D6D15866-948E-4C2B-8D36-3BBB33454D93}"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94600A9D-3A5F-49D6-BDEB-D2C3BFBE64AB}"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0347D75B-C906-4143-8A68-C70C98428C29}"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96FEFB-7743-4965-B9F8-37B26FDABC5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6F769E7-D4E1-4CA0-A525-E5E686DF69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54ECD7F6-8348-477E-9F1B-1AE9DC23CDCD}"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E75E29C-0B4A-4E3C-A96B-A65D98A7531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C6D8EAB-1CFD-4C4A-8397-777580567C8A}"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448C92E-5F11-4BEA-8092-02155A449DFB}"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BBA061E-BBA4-468F-ABBF-831FCC743D5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DD91D6D7-1E5F-4591-B013-0781BE53192E}"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24A9253-5A41-4511-9954-4B9F7F90A698}"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284FEF5F-FF4B-4C01-8069-FC7558CD6C5E}"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1A95A3A-3B5B-418F-A9C1-077EFFA4B114}"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F86ADD40-CE33-4D61-8397-5C36CFAF2373}"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F679514-D2D7-4E84-B6E2-094291490C4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8F953EB4-830B-4D37-9273-E1CAE8A3ABC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0E380EF-B535-49A1-A0F2-92ECE73D84D5}"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BD064405-F8D7-4934-9B4A-B546FA919C0F}"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17C9A84-24B2-4325-B1BF-B637B5DB55A5}"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76D273A-D0DE-4119-A5E7-6CBA4CD933C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707C18-E96A-482A-AC4D-D0CA1FDA9A4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539995A-F1EE-4D3F-B72E-5B578FBF7C9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E611D57E-3950-4318-8954-1B4A5D8953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56A39983-CC09-4982-911E-0A58FBDB0631}"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FA3D66C5-8C3D-444F-A8F9-CD02A49048F6}"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F728C3B-C219-46DE-BEEB-2C4157C5FE3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6090C0FD-9F0D-4C98-97A7-658854FA4635}"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2FF73B-3243-4503-AAEB-20CDE5F153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95D0AB9-82AD-456D-9F53-A5D1D3B157E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6B1D36B-FFC3-4C08-901D-145DCC24660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3B750C5-22B8-4E67-AD30-F9BD770661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7095D9-6141-4611-9BBB-D9CBE79910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6B7AA7F4-656B-4570-8F39-91109D9C90BD}"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39283642-E28C-49D1-BD84-1A0A1851AB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0C9950-B672-4498-A228-EC99B2ECF0EC}"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C45F7BD-1482-4F33-99BE-37A2347C4048}"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A211102-360A-4351-A6FF-36F9272BFBE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7C4193B-2216-4FEB-9C34-D6AED11EC946}"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91CE53F-1AF9-4C1A-AA53-1FBCBBE2C1A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0C4E16F-A735-4E7A-AEB0-69EEBBF2DA3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F5894703-4D7B-471A-BB8B-0E0BAA0D63E7}"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0EA55CF1-9842-4457-A17E-3C2AFE830E5F}"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403BD5-5032-4DF2-9D1C-D8E9B0F17B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2DA7A6B4-3FFC-4CE9-866F-BDD952417CD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92399AE-DCD7-40A5-BC51-82C609CFA83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7F06E1EC-7DA8-402A-AA9A-83137F9412A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AB3A879B-108E-4881-878A-DB53B96DA09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F06F1F5-4ED9-490F-BC7C-8B59CA8EB7F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290D528-C4F3-424A-900A-1A939479073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6628A60-D7F4-4746-82D4-38518BC0F1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1B5906C-D8F2-4F76-9D4A-C2F6EB54373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5AE73C1-0E96-41FA-9354-A3215E7F7D37}"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1BD14C2D-4DEB-42CD-9F61-AED52BE01696}"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81A69D-D8DF-4089-962F-3FCB32C4B3A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6C2A09-EA23-4F36-8CFD-3235CEA40D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FA010FA0-F880-4953-80ED-9A1FD8CB97F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38EAC59D-5763-4198-AD2E-6972F0591D9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F560370-33C9-4D05-A71D-1119B7CB9AE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1FE8829-BA85-45B5-89B0-24A2D70B8FE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BFD205B-69A9-4546-B64E-6CCBB089C3F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4D589A7-0100-4970-98E8-9F535C57B3E3}"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AB93364-A8E1-4D03-ADDC-307EC652991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4E09A3C-3C9D-4880-9E97-0A3181B0994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E7C0FBC2-54A4-4FC1-95BE-AC584BE4831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DED25D-F4F4-4D85-8264-1CD2BE4E71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F4C2716-856F-4166-8C7F-51E3EBFDA81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345FD341-75C9-49E6-A1B8-4B70BEE2294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D6A263B5-8BEC-49EB-8D8C-DDFCBF7C48BE}"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8459204-101A-4EE1-9C2A-F002D6BD74E2}"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0252EE9-3655-4A58-97E9-0D21C6922E2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18536DE3-F281-44D3-86B0-16970381708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B1D99F39-51E6-48FA-86B5-E0D98111B0D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0B31A50-F89A-4FFC-8A1E-29590E183C6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2E1FC4AC-3ED2-4CC4-811D-5DA6B2E005C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24668747-FC72-4EFB-B17D-A1F8763FA76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4826B64-6862-4851-B256-1066370BFA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9E91775-3F7E-4E9E-90AE-A86BB88F2FB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474DF33C-9732-495E-B35D-018AD4EABC4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F10E803-4A1F-481A-B71F-B16CDFFC36D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B50EF6C-8572-4B0A-9366-11C980B4E356}"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F4CE3E03-0C1E-4742-A803-610FCB42021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BA8DC03A-B37B-4607-BA2A-670544D801A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D2293239-486F-47CC-BA12-387E57937D2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FD42B4-DFBE-44C3-9547-0A2F1225569C}"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D0D4A76-E25A-4585-BC9E-65E410D9616A}"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68C72333-0F56-4348-82C2-F6E3813D746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51334C-5CDE-4DE9-8B0B-C54F09F4C2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0D11D01-3071-47BB-A59F-C007CFDCC9D2}"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120BC47-32A7-428E-9AAA-8B93509534D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09F4B392-960E-4141-AE32-F4DDE637B8B5}"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D0B1412-2931-4CBD-BC7B-B087BC64F25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C47826A-E42B-4F9F-B408-63500CBC57D8}"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963D190-CF8F-4E51-967E-88BE8956E7B8}"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E8B0AFD8-BB47-4755-A8DD-EA4A820F3CB2}"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3EA6E7D4-59E6-427F-97F8-A63388C7427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BFB6BB3-6384-4BAD-B432-266E7E81ED5A}"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9937AD2F-8C0B-4A15-8C9D-2E94A47CBD3C}"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05F08F55-DAAC-4221-8639-D87AF9258665}"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AD437465-601A-4E34-9954-68AA5EDD4F6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0696D11-A573-4A26-AF66-FF66FF5A39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36D5C65-68EE-4C57-B6B9-E1B3A63ABDD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C42E998-31C9-45F4-AE1A-A72D8B40460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3655B39-AE4F-4964-AD16-8B7A5EDF0C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51EFA292-005B-4677-8C48-CEC4919D468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E523FB3-F7FB-4E35-9948-AC4E590DC0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CCA9F89-17F8-4665-BDEC-D98200F1FDB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88C3D91F-6E1C-4E80-8774-A70CDC9F96E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41F7E16-0CF5-45AD-B1C2-AC144F6F4B7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47373DC-227B-4E5D-949D-9410B810A5E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B6EBB94-6BCE-406F-B167-37A55BADA232}"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37CEED3-DD78-46D3-8345-1FA1B1C6D34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8EEDF85-CFD4-45E3-9D18-7CCC6413DF5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F86CA08-346B-4A5C-B720-EAF71796A1B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